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AEE-A7A1-48E4-9D1F-DEB62025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E362-3C33-422A-9B9D-BFFC90AE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661-2F2A-4F3A-BB26-8823CB63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DD1-F59F-40BF-AA4B-9A9D8946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6960-99A1-4908-962D-B1879281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2342-86D1-442C-BD53-773B4E9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0AC3-EB41-4BD9-B095-DC84C862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42A1-301A-4625-87A3-99A862B3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A108-2030-4900-AD18-8AED8F4D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5C47-937F-41D9-AF5B-5DF5CAE7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C31B-73CF-4882-9F30-E5748B0C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A20-AD17-4AA5-A882-78B08850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FFA3-AAC8-4A50-A508-6A5FA2E9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44AB-2DE9-400E-B528-4CBFD47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80B3-6BC9-478F-8D0B-8F299BAD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38E3-94A1-445F-9D28-D90F2CAC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9DD4-8958-4FC3-8DF7-51393151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8B0-79A5-4C4B-A267-A1408B2E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290-9D8A-481A-856A-A2F29B9A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6B8-5334-49B5-9B43-9E2D9B05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DAA-7275-40DF-B5AC-0C28AA56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FA1-DC6F-461C-AAD0-A70189B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B16-929F-460B-BC42-E1C96B49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8CB-7E5B-4987-B384-29F33ECD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7B4E-7376-4425-B7F0-DDBA686EB7E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 algn="r" rtl="1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D60B-D388-49A9-B897-A20DEA62A4B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800" spc="-1" strike="noStrike">
                <a:solidFill>
                  <a:srgbClr val="7c1302"/>
                </a:solidFill>
                <a:latin typeface="IranNastaliq"/>
                <a:cs typeface="IranNastaliq"/>
              </a:rPr>
              <a:t>بسم الله الرحمن الرحیم</a:t>
            </a:r>
            <a:endParaRPr b="1" lang="en-US" sz="88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اختار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وَإِذَا رَأَيْتَهُمْ تُعْجِبُكَ أَجْسَامُهُم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وَإِنْ يَقُولُوا تَسْمَعْ لِقَوْلِهِم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كَأَنَّهُمْ خُشُبٌ مُسَنَّدَة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يَحْسَبُونَ كُلَّ صَيْحَةٍ عَلَيْهِم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هُمُ الْعَدُوُّ فَاحْذَرْهُم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قَاتَلَهُمُ اللَّهُ أَنَّى يُؤْفَكُونَ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٤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اختار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إِذَا قِيلَ لَهُمْ تَعَالَوْا يَسْتَغْفِرْ لَكُمْ رَسُولُ اللَّهِ لَوَّوْا رُءُوسَهُمْ وَرَأَيْتَهُمْ يَصُدُّونَ وَهُمْ مُسْتَكْبِر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٥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سَوَاءٌ عَلَيْهِمْ أَسْتَغْفَرْتَ لَهُمْ أَمْ لَمْ تَسْتَغْفِرْ لَهُمْ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لَنْ يَغْفِرَ اللَّهُ لَهُمْ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إِنَّ اللَّهَ لا يَهْدِي الْقَوْمَ الْفَاسِقِي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٦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جهت هدایتی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50000"/>
              </a:lnSpc>
              <a:spcBef>
                <a:spcPts val="20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فشاگری خدا درباره کفر و دشمنی منافق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ای رسول ما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B Yagut"/>
              </a:rPr>
              <a:t>! آنان کافرانی مؤمن نما و دشمنانی در ظاهر دوست هستند از ایشان برحذر باش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300" spc="-1" strike="noStrike">
                <a:solidFill>
                  <a:srgbClr val="7c1302"/>
                </a:solidFill>
                <a:latin typeface="Arial"/>
                <a:cs typeface="Mj_Egypt"/>
              </a:rPr>
              <a:t>سیاق دوم</a:t>
            </a:r>
            <a:endParaRPr b="1" lang="en-US" sz="73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فضای سخن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توطئه منافقان اخراج شده برای توسعه فقر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و براندازی حکومت الهی رسول خدا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اختار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هُمُ الَّذِينَ يَقُولُونَ لا تُنْفِقُوا عَلَى مَنْ عِنْدَ رَسُولِ اللَّهِ حَتَّى يَنْفَضُّو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لِلَّهِ خَزَائِنُ السَّمَاوَاتِ وَالأرْض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لَكِنَّ الْمُنَافِقِينَ لا يَفْقَه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٧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اختار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يَقُولُونَ لَئِنْ رَجَعْنَا إِلَى الْمَدِينَةِ لَيُخْرِجَنَّ الأعَزُّ مِنْهَا الأذَلّ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لِلَّهِ الْعِزَّةُ وَلِرَسُولِهِ وَلِلْمُؤْمِنِين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لَكِنَّ الْمُنَافِقِينَ لا يَعْلَم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٨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اختار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يَا أَيُّهَا الَّذِينَ آمَنُو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لا تُلْهِكُمْ أَمْوَالُكُمْ وَلا أَوْلادُكُمْ عَنْ ذِكْرِ اللَّه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مَنْ يَفْعَلْ ذَلِكَ فَأُولَئِكَ هُمُ الْخَاسِر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٩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اختار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أَنْفِقُوا مِنْ مَا رَزَقْنَاكُمْ مِنْ قَبْلِ أَنْ يَأْتِيَ أَحَدَكُمُ الْمَوْتُ فَيَقُولَ رَبِّ لَوْلا أَخَّرْتَنِي إِلَى أَجَلٍ قَرِيبٍ فَأَصَّدَّقَ وَأَكُنْ مِنَ الصَّالِحِي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١٠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لَنْ يُؤَخِّرَ اللَّهُ نَفْسًا إِذَا جَاءَ أَجَلُهَ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خَبِيرٌ بِمَا تَعْمَل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١١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جهت هدایتی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r" rtl="1">
              <a:lnSpc>
                <a:spcPct val="150000"/>
              </a:lnSpc>
              <a:spcBef>
                <a:spcPts val="16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Arial"/>
                <a:cs typeface="IranNastaliq"/>
              </a:rPr>
              <a:t>پیشگیری از توسعه پدیده نفاق، در مقام مقابله با توطئه منافقا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توطئه منافقان برای توسعه فقر و براندازی ذلیلانه حاکمیت الهی رسول خدا</a:t>
            </a:r>
            <a:r>
              <a:rPr b="0" lang="fa-IR" sz="3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B Yagut"/>
              </a:rPr>
              <a:t> نشانه نادانی ایشان است؛ اما مبادا شما مؤمنان، انفاق نکرده و گرفتار نفاق شوی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7c1302"/>
                </a:solidFill>
                <a:latin typeface="Arial"/>
                <a:cs typeface="Mj_Egypt"/>
              </a:rPr>
              <a:t>تدبر در</a:t>
            </a:r>
            <a:endParaRPr b="1" lang="en-US" sz="9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Arial"/>
                <a:cs typeface="Mj_Moshfegh"/>
              </a:rPr>
              <a:t>سوره مبارکه منافق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300" spc="-1" strike="noStrike">
                <a:solidFill>
                  <a:srgbClr val="7c1302"/>
                </a:solidFill>
                <a:latin typeface="Arial"/>
                <a:cs typeface="Mj_Egypt"/>
              </a:rPr>
              <a:t>سوره</a:t>
            </a:r>
            <a:endParaRPr b="1" lang="en-US" sz="73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فضای سخن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وجود کافرانی مؤمن نما و دشمنانی در ظاهر دوست (گرگهایی در پوستین می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cc3300"/>
                </a:solidFill>
                <a:latin typeface="Arial"/>
                <a:cs typeface="B Yagut"/>
              </a:rPr>
              <a:t>افشاگری خدا درباره کفر و دشمنی منافق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توطئه منافقان اخراج شده برای توسعه فقر و براندازی حکومت الهی رسول خدا</a:t>
            </a:r>
            <a:r>
              <a:rPr b="0" lang="fa-IR" sz="3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جهت هدایتی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50000"/>
              </a:lnSpc>
              <a:spcBef>
                <a:spcPts val="15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فشاگری نسبت به منافقان و پیشگیری از توسعه نفا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15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Yagut"/>
              </a:rPr>
              <a:t>ای رسول ما</a:t>
            </a:r>
            <a:r>
              <a:rPr b="0" lang="fa-IR" sz="2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Yagut"/>
              </a:rPr>
              <a:t>! کافران مؤمن نما و دشمنان دوست نما را بشناس و از ایشان بر حذر با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15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Yagut"/>
              </a:rPr>
              <a:t>ای مردم! انفاق کنید تا در دام نفاق گرفتار نشو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تشخیص سیاقها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یاق 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1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. آیه 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1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 تا 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6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بِسْمِ اللَّهِ الرَّحْمَنِ الرَّحِيمِ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إِذَا جَاءَكَ الْمُنَافِقُونَ قَالُوا نَشْهَدُ إِنَّكَ لَرَسُولُ اللَّهِ وَاللَّهُ يَعْلَمُ إِنَّكَ لَرَسُولُهُ وَاللَّهُ يَشْهَدُ إِنَّ الْمُنَافِقِينَ لَكَاذِبُو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١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اتَّخَذُوا أَيْمَانَهُمْ جُنَّةً فَصَدُّوا عَنْ سَبِيلِ اللَّهِ إِنَّهُمْ سَاءَ مَا كَانُوا يَعْمَلُو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٢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ذَلِكَ بِأَنَّهُمْ آمَنُوا ثُمَّ كَفَرُوا فَطُبِعَ عَلَى قُلُوبِهِمْ فَهُمْ لا يَفْقَهُو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٣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وَإِذَا رَأَيْتَهُمْ تُعْجِبُكَ أَجْسَامُهُمْ وَإِنْ يَقُولُوا تَسْمَعْ لِقَوْلِهِمْ كَأَنَّهُمْ خُشُبٌ مُسَنَّدَةٌ يَحْسَبُونَ كُلَّ صَيْحَةٍ عَلَيْهِمْ هُمُ الْعَدُوُّ فَاحْذَرْهُمْ قَاتَلَهُمُ اللَّهُ أَنَّى يُؤْفَكُو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٤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وَإِذَا قِيلَ لَهُمْ تَعَالَوْا يَسْتَغْفِرْ لَكُمْ رَسُولُ اللَّهِ لَوَّوْا رُءُوسَهُمْ وَرَأَيْتَهُمْ يَصُدُّونَ وَهُمْ مُسْتَكْبِرُو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٥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سَوَاءٌ عَلَيْهِمْ أَسْتَغْفَرْتَ لَهُمْ أَمْ لَمْ تَسْتَغْفِرْ لَهُمْ لَنْ يَغْفِرَ اللَّهُ لَهُمْ إِنَّ اللَّهَ لا يَهْدِي الْقَوْمَ الْفَاسِقِي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٦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یاق 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2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. آیه 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7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 تا </a:t>
            </a:r>
            <a:r>
              <a:rPr b="1" lang="fa-IR" sz="3900" spc="-1" strike="noStrike">
                <a:solidFill>
                  <a:srgbClr val="7c1302"/>
                </a:solidFill>
                <a:latin typeface="Arial"/>
                <a:ea typeface="Mj_Egypt"/>
              </a:rPr>
              <a:t>11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هُمُ الَّذِينَ يَقُولُونَ لا تُنْفِقُوا عَلَى مَنْ عِنْدَ رَسُولِ اللَّهِ حَتَّى يَنْفَضُّوا وَلِلَّهِ خَزَائِنُ السَّمَاوَاتِ وَالأرْضِ وَلَكِنَّ الْمُنَافِقِينَ لا يَفْقَهُو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٧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يَقُولُونَ لَئِنْ رَجَعْنَا إِلَى الْمَدِينَةِ لَيُخْرِجَنَّ الأعَزُّ مِنْهَا الأذَلَّ وَلِلَّهِ الْعِزَّةُ وَلِرَسُولِهِ وَلِلْمُؤْمِنِينَ وَلَكِنَّ الْمُنَافِقِينَ لا يَعْلَمُو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٨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يَا أَيُّهَا الَّذِينَ آمَنُوا لا تُلْهِكُمْ أَمْوَالُكُمْ وَلا أَوْلادُكُمْ عَنْ ذِكْرِ اللَّهِ وَمَنْ يَفْعَلْ ذَلِكَ فَأُولَئِكَ هُمُ الْخَاسِرُو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٩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وَأَنْفِقُوا مِنْ مَا رَزَقْنَاكُمْ مِنْ قَبْلِ أَنْ يَأْتِيَ أَحَدَكُمُ الْمَوْتُ فَيَقُولَ رَبِّ لَوْلا أَخَّرْتَنِي إِلَى أَجَلٍ قَرِيبٍ فَأَصَّدَّقَ وَأَكُنْ مِنَ الصَّالِحِي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١٠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وَلَنْ يُؤَخِّرَ اللَّهُ نَفْسًا إِذَا جَاءَ أَجَلُهَا وَاللَّهُ خَبِيرٌ بِمَا تَعْمَلُونَ (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cs typeface="me_quran"/>
              </a:rPr>
              <a:t>١١</a:t>
            </a:r>
            <a:r>
              <a:rPr b="0" lang="ar-SA" sz="21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8000" spc="-1" strike="noStrike">
                <a:solidFill>
                  <a:srgbClr val="7c1302"/>
                </a:solidFill>
                <a:latin typeface="Arial"/>
                <a:cs typeface="Mj_Egypt"/>
              </a:rPr>
              <a:t>سیاق اول</a:t>
            </a:r>
            <a:endParaRPr b="1" lang="en-US" sz="80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فضای سخن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وجود کافرانی مؤمن نم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و دشمنانی در ظاهر دوست (گرگهایی در پوستین میش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اختار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بِسْمِ اللَّهِ الرَّحْمَنِ الرَّحِيم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إِذَا جَاءَكَ الْمُنَافِقُونَ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me_qur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قَالُوا نَشْهَدُ إِنَّكَ لَرَسُولُ اللَّه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يَعْلَمُ إِنَّكَ لَرَسُولُه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يَشْهَدُ إِنَّ الْمُنَافِقِينَ لَكَاذِب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١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900" spc="-1" strike="noStrike">
                <a:solidFill>
                  <a:srgbClr val="7c1302"/>
                </a:solidFill>
                <a:latin typeface="Arial"/>
                <a:cs typeface="Mj_Egypt"/>
              </a:rPr>
              <a:t>ساختار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اتَّخَذُوا أَيْمَانَهُمْ جُنَّةً فَصَدُّوا عَنْ سَبِيلِ اللَّه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إِنَّهُمْ سَاءَ مَا كَانُوا يَعْمَل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٢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ذَلِكَ بِأَنَّهُمْ آمَنُوا ثُمَّ كَفَرُو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فَطُبِعَ عَلَى قُلُوبِهِمْ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فَهُمْ لا يَفْقَه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٣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0:29:33Z</dcterms:created>
  <dc:creator>Ali</dc:creator>
  <dc:description/>
  <dc:language>en-US</dc:language>
  <cp:lastModifiedBy>hdq</cp:lastModifiedBy>
  <dcterms:modified xsi:type="dcterms:W3CDTF">2011-10-06T14:27:51Z</dcterms:modified>
  <cp:revision>22</cp:revision>
  <dc:subject/>
  <dc:title>بسم الله الرحمن الرحیم</dc:title>
</cp:coreProperties>
</file>